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media/cashreg.wav" ContentType="audio/x-wav"/>
  <Override PartName="/ppt/media/image8.wmf" ContentType="image/x-wmf"/>
  <Override PartName="/ppt/media/image9.wmf" ContentType="image/x-wmf"/>
  <Override PartName="/ppt/media/image7.wmf" ContentType="image/x-wmf"/>
  <Override PartName="/ppt/media/CHIMES.WAV" ContentType="audio/x-wav"/>
  <Override PartName="/ppt/media/image18.wmf" ContentType="image/x-wmf"/>
  <Override PartName="/ppt/media/image20.wmf" ContentType="image/x-wmf"/>
  <Override PartName="/ppt/media/ghostlaugh.wav" ContentType="audio/x-wav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EXPLODE.WAV" ContentType="audio/x-wav"/>
  <Override PartName="/ppt/media/image3.wmf" ContentType="image/x-wmf"/>
  <Override PartName="/ppt/media/image2.wmf" ContentType="image/x-wmf"/>
  <Override PartName="/ppt/media/image1.wmf" ContentType="image/x-wmf"/>
  <Override PartName="/ppt/media/Baseball%20critical%20stop.wav" ContentType="audio/x-wav"/>
  <Override PartName="/ppt/media/image15.wmf" ContentType="image/x-wmf"/>
  <Override PartName="/ppt/media/image19.wmf" ContentType="image/x-wmf"/>
  <Override PartName="/ppt/media/APPLAUSE.WAV" ContentType="audio/x-wav"/>
  <Override PartName="/ppt/media/image17.wmf" ContentType="image/x-wmf"/>
  <Override PartName="/ppt/media/image13.wmf" ContentType="image/x-wmf"/>
  <Override PartName="/ppt/media/image11.wmf" ContentType="image/x-wmf"/>
  <Override PartName="/ppt/media/DRIVEBY.WAV" ContentType="audio/x-wav"/>
  <Override PartName="/ppt/media/WHOOSH.WAV" ContentType="audio/x-wav"/>
  <Override PartName="/ppt/media/CARBRAKE.WAV" ContentType="audio/x-wav"/>
  <Override PartName="/ppt/media/image16.wmf" ContentType="image/x-wmf"/>
  <Override PartName="/ppt/media/image14.wmf" ContentType="image/x-wmf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3BD0-62CC-4198-8E19-DC7703F1E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1534-3D64-4FC0-A0D0-363A52EF5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D302-52D5-462F-8ED0-9846E0FBA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D22E-448E-4BAB-961E-5AA2BB5D1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A565-16A6-4DC7-BFE7-DCAAB12B6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8B80-3F5E-439C-A139-D7098FBA6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C025-0ED9-4DCF-B6B8-0CD7E9CAE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E998-D0EA-44F1-9CCF-4CBD972DA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B444-4F19-4381-95BE-94E84A35E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9A78-1C1D-428A-865A-C632969C8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D970-44FE-4030-BE28-652350DC0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792A-625B-483B-B3BD-DA9004854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BEE03-8A61-4EA0-8EC1-D8A2B8185C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8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9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0.wmf"/><Relationship Id="rId23" Type="http://schemas.openxmlformats.org/officeDocument/2006/relationships/audio" Target="../media/EXPLODE.WAV"/><Relationship Id="rId24" Type="http://schemas.openxmlformats.org/officeDocument/2006/relationships/audio" Target="../media/CHIMES.WAV"/><Relationship Id="rId25" Type="http://schemas.openxmlformats.org/officeDocument/2006/relationships/audio" Target="../media/CHIMES.WAV"/><Relationship Id="rId26" Type="http://schemas.openxmlformats.org/officeDocument/2006/relationships/audio" Target="../media/CHIMES.WAV"/><Relationship Id="rId27" Type="http://schemas.openxmlformats.org/officeDocument/2006/relationships/audio" Target="../media/CHIMES.WAV"/><Relationship Id="rId28" Type="http://schemas.openxmlformats.org/officeDocument/2006/relationships/audio" Target="../media/CHIMES.WAV"/><Relationship Id="rId29" Type="http://schemas.openxmlformats.org/officeDocument/2006/relationships/audio" Target="../media/CHIMES.WAV"/><Relationship Id="rId30" Type="http://schemas.openxmlformats.org/officeDocument/2006/relationships/audio" Target="../media/CHIMES.WAV"/><Relationship Id="rId31" Type="http://schemas.openxmlformats.org/officeDocument/2006/relationships/audio" Target="../media/CHIMES.WAV"/><Relationship Id="rId32" Type="http://schemas.openxmlformats.org/officeDocument/2006/relationships/audio" Target="../media/cashreg.wav"/><Relationship Id="rId33" Type="http://schemas.openxmlformats.org/officeDocument/2006/relationships/audio" Target="../media/CHIMES.WAV"/><Relationship Id="rId34" Type="http://schemas.openxmlformats.org/officeDocument/2006/relationships/audio" Target="../media/CHIMES.WAV"/><Relationship Id="rId35" Type="http://schemas.openxmlformats.org/officeDocument/2006/relationships/audio" Target="../media/CHIMES.WAV"/><Relationship Id="rId36" Type="http://schemas.openxmlformats.org/officeDocument/2006/relationships/audio" Target="../media/CHIMES.WAV"/><Relationship Id="rId37" Type="http://schemas.openxmlformats.org/officeDocument/2006/relationships/audio" Target="../media/CHIMES.WAV"/><Relationship Id="rId38" Type="http://schemas.openxmlformats.org/officeDocument/2006/relationships/audio" Target="../media/CHIMES.WAV"/><Relationship Id="rId3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7.wmf"/><Relationship Id="rId17" Type="http://schemas.openxmlformats.org/officeDocument/2006/relationships/audio" Target="../media/CHIMES.WAV"/><Relationship Id="rId18" Type="http://schemas.openxmlformats.org/officeDocument/2006/relationships/audio" Target="../media/CHIMES.WAV"/><Relationship Id="rId19" Type="http://schemas.openxmlformats.org/officeDocument/2006/relationships/audio" Target="../media/CHIMES.WAV"/><Relationship Id="rId20" Type="http://schemas.openxmlformats.org/officeDocument/2006/relationships/audio" Target="../media/CHIMES.WAV"/><Relationship Id="rId21" Type="http://schemas.openxmlformats.org/officeDocument/2006/relationships/audio" Target="../media/CHIMES.WAV"/><Relationship Id="rId22" Type="http://schemas.openxmlformats.org/officeDocument/2006/relationships/audio" Target="../media/DRIVEBY.WAV"/><Relationship Id="rId23" Type="http://schemas.openxmlformats.org/officeDocument/2006/relationships/audio" Target="../media/CHIMES.WAV"/><Relationship Id="rId24" Type="http://schemas.openxmlformats.org/officeDocument/2006/relationships/audio" Target="../media/DRIVEBY.WAV"/><Relationship Id="rId25" Type="http://schemas.openxmlformats.org/officeDocument/2006/relationships/audio" Target="../media/CHIMES.WAV"/><Relationship Id="rId26" Type="http://schemas.openxmlformats.org/officeDocument/2006/relationships/audio" Target="../media/CHIMES.WAV"/><Relationship Id="rId27" Type="http://schemas.openxmlformats.org/officeDocument/2006/relationships/audio" Target="../media/CHIMES.WAV"/><Relationship Id="rId28" Type="http://schemas.openxmlformats.org/officeDocument/2006/relationships/audio" Target="../media/CHIMES.WAV"/><Relationship Id="rId29" Type="http://schemas.openxmlformats.org/officeDocument/2006/relationships/audio" Target="../media/CHIMES.WAV"/><Relationship Id="rId3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audio" Target="../media/DRIVEBY.WAV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audio" Target="../media/CARBRAKE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Baseball%20critical%20stop.wav"/><Relationship Id="rId2" Type="http://schemas.openxmlformats.org/officeDocument/2006/relationships/audio" Target="../media/Baseball%20critical%20stop.wav"/><Relationship Id="rId3" Type="http://schemas.openxmlformats.org/officeDocument/2006/relationships/audio" Target="../media/Baseball%20critical%20stop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audio" Target="../media/ghostlaugh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990720" y="228600"/>
            <a:ext cx="72579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6699"/>
                </a:solidFill>
                <a:latin typeface="Arial Black"/>
              </a:rPr>
              <a:t>Chapter 11 Review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666699"/>
              </a:solidFill>
              <a:latin typeface="Arial Black"/>
              <a:ea typeface="Arial Black"/>
            </a:endParaRPr>
          </a:p>
        </p:txBody>
      </p:sp>
      <p:sp>
        <p:nvSpPr>
          <p:cNvPr id="42" name=""/>
          <p:cNvSpPr/>
          <p:nvPr/>
        </p:nvSpPr>
        <p:spPr>
          <a:xfrm>
            <a:off x="76320" y="1143000"/>
            <a:ext cx="906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lve the propor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04920" y="1600200"/>
          <a:ext cx="3890880" cy="146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600200"/>
                    <a:ext cx="3890880" cy="14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" name=""/>
          <p:cNvGraphicFramePr/>
          <p:nvPr/>
        </p:nvGraphicFramePr>
        <p:xfrm>
          <a:off x="2133720" y="2971800"/>
          <a:ext cx="1917720" cy="757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3720" y="2971800"/>
                    <a:ext cx="1917720" cy="75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"/>
          <p:cNvGraphicFramePr/>
          <p:nvPr/>
        </p:nvGraphicFramePr>
        <p:xfrm>
          <a:off x="4038480" y="3124080"/>
          <a:ext cx="2378160" cy="600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038480" y="3124080"/>
                    <a:ext cx="2378160" cy="6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" name=""/>
          <p:cNvGraphicFramePr/>
          <p:nvPr/>
        </p:nvGraphicFramePr>
        <p:xfrm>
          <a:off x="2209680" y="3733920"/>
          <a:ext cx="701640" cy="757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09680" y="3733920"/>
                    <a:ext cx="701640" cy="75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2819520" y="3962520"/>
          <a:ext cx="853920" cy="555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819520" y="3962520"/>
                    <a:ext cx="853920" cy="55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733920" y="3886200"/>
          <a:ext cx="1114200" cy="6001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733920" y="3886200"/>
                    <a:ext cx="1114200" cy="6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4800600" y="3886200"/>
          <a:ext cx="955800" cy="6001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800600" y="3886200"/>
                    <a:ext cx="955800" cy="6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2133720" y="4648320"/>
          <a:ext cx="500040" cy="5000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133720" y="4648320"/>
                    <a:ext cx="50004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3809880" y="4648320"/>
          <a:ext cx="500040" cy="5000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809880" y="4648320"/>
                    <a:ext cx="50004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2666880" y="4495680"/>
          <a:ext cx="803520" cy="6019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666880" y="4495680"/>
                    <a:ext cx="803520" cy="6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4267080" y="4495680"/>
          <a:ext cx="854280" cy="6019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4267080" y="4495680"/>
                    <a:ext cx="854280" cy="6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1981080" y="5410080"/>
            <a:ext cx="2210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 = - 5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86200" y="5410080"/>
            <a:ext cx="2209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 = 4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1981080" y="4419720"/>
                <a:ext cx="4057920" cy="78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990720" y="228600"/>
            <a:ext cx="72579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6699"/>
                </a:solidFill>
                <a:latin typeface="Arial Black"/>
              </a:rPr>
              <a:t>Chapter 11 Review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666699"/>
              </a:solidFill>
              <a:latin typeface="Arial Black"/>
              <a:ea typeface="Arial Black"/>
            </a:endParaRPr>
          </a:p>
        </p:txBody>
      </p:sp>
      <p:sp>
        <p:nvSpPr>
          <p:cNvPr id="69" name=""/>
          <p:cNvSpPr/>
          <p:nvPr/>
        </p:nvSpPr>
        <p:spPr>
          <a:xfrm>
            <a:off x="76320" y="838080"/>
            <a:ext cx="906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lve the percent probl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137160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   What percent of 240 is 36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3048120" y="2057400"/>
          <a:ext cx="590400" cy="69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2057400"/>
                    <a:ext cx="590400" cy="69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3755880" y="1981080"/>
          <a:ext cx="1441440" cy="636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55880" y="1981080"/>
                    <a:ext cx="1441440" cy="63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" name=""/>
          <p:cNvGraphicFramePr/>
          <p:nvPr/>
        </p:nvGraphicFramePr>
        <p:xfrm>
          <a:off x="5181480" y="1981080"/>
          <a:ext cx="1333800" cy="636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81480" y="1981080"/>
                    <a:ext cx="1333800" cy="63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"/>
          <p:cNvSpPr/>
          <p:nvPr/>
        </p:nvSpPr>
        <p:spPr>
          <a:xfrm>
            <a:off x="3429000" y="2590920"/>
            <a:ext cx="16002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635800" y="2590920"/>
            <a:ext cx="990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3683160" y="2590920"/>
          <a:ext cx="1058760" cy="600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683160" y="2590920"/>
                    <a:ext cx="1058760" cy="6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"/>
          <p:cNvGraphicFramePr/>
          <p:nvPr/>
        </p:nvGraphicFramePr>
        <p:xfrm>
          <a:off x="5638680" y="2590920"/>
          <a:ext cx="1059120" cy="600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638680" y="2590920"/>
                    <a:ext cx="1059120" cy="6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"/>
          <p:cNvGraphicFramePr/>
          <p:nvPr/>
        </p:nvGraphicFramePr>
        <p:xfrm>
          <a:off x="4343400" y="3581280"/>
          <a:ext cx="1200240" cy="739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343400" y="3581280"/>
                    <a:ext cx="1200240" cy="73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5486400" y="3048120"/>
          <a:ext cx="905040" cy="16556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486400" y="3048120"/>
                    <a:ext cx="905040" cy="165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" name=""/>
          <p:cNvGraphicFramePr/>
          <p:nvPr/>
        </p:nvGraphicFramePr>
        <p:xfrm>
          <a:off x="6248520" y="3556080"/>
          <a:ext cx="1706400" cy="6379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248520" y="3556080"/>
                    <a:ext cx="1706400" cy="63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"/>
          <p:cNvSpPr/>
          <p:nvPr/>
        </p:nvSpPr>
        <p:spPr>
          <a:xfrm>
            <a:off x="4876920" y="4876920"/>
            <a:ext cx="2209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= 15%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500"/>
                            </p:stCondLst>
                            <p:childTnLst>
                              <p:par>
                                <p:cTn id="1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76320" y="838080"/>
            <a:ext cx="9067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nd an equation of variation when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varies inversely with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57200" y="198108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.  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= 4 and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= 1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2259000" y="2813040"/>
          <a:ext cx="2087640" cy="80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59000" y="2813040"/>
                    <a:ext cx="2087640" cy="80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2438280" y="3505320"/>
          <a:ext cx="1930680" cy="1655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38280" y="3505320"/>
                    <a:ext cx="1930680" cy="165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"/>
          <p:cNvSpPr txBox="1"/>
          <p:nvPr/>
        </p:nvSpPr>
        <p:spPr>
          <a:xfrm>
            <a:off x="990720" y="228600"/>
            <a:ext cx="72579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6699"/>
                </a:solidFill>
                <a:latin typeface="Arial Black"/>
              </a:rPr>
              <a:t>Chapter 11 Review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666699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341280" y="1219320"/>
                <a:ext cx="3059280" cy="13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5562720" y="1828800"/>
                <a:ext cx="2971800" cy="11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bar>
                      <m:barPr>
                        <m:pos m:val="top"/>
                      </m:bar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ba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4419720" y="2133720"/>
                <a:ext cx="1231920" cy="65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5867280" y="1447920"/>
                <a:ext cx="541440" cy="60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5715000" y="2590920"/>
                <a:ext cx="687240" cy="78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6248520" y="2666880"/>
                <a:ext cx="1295280" cy="7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5715000" y="33526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5410080" y="2819520"/>
                <a:ext cx="457200" cy="2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6324480" y="2590920"/>
                <a:ext cx="52704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7010280" y="3352680"/>
                <a:ext cx="54144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7467480" y="3276720"/>
                <a:ext cx="106056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6400800" y="1371600"/>
                <a:ext cx="71136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7010280" y="3733920"/>
                <a:ext cx="1447920" cy="77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0" name=""/>
          <p:cNvSpPr/>
          <p:nvPr/>
        </p:nvSpPr>
        <p:spPr>
          <a:xfrm>
            <a:off x="7010280" y="441972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6705720" y="3809880"/>
                <a:ext cx="368280" cy="4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7467480" y="3733920"/>
                <a:ext cx="52704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7543800" y="4419720"/>
                <a:ext cx="990720" cy="55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7162920" y="979560"/>
                <a:ext cx="1295280" cy="110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066680" y="3581280"/>
            <a:ext cx="2887920" cy="1675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746280" y="5097600"/>
                <a:ext cx="3778200" cy="16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 txBox="1"/>
          <p:nvPr/>
        </p:nvSpPr>
        <p:spPr>
          <a:xfrm>
            <a:off x="990720" y="228600"/>
            <a:ext cx="72579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6699"/>
                </a:solidFill>
                <a:latin typeface="Arial Black"/>
              </a:rPr>
              <a:t>Chapter 11 Review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666699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0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500"/>
                            </p:stCondLst>
                            <p:childTnLst>
                              <p:par>
                                <p:cTn id="27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1968480" y="1219320"/>
                <a:ext cx="4368960" cy="13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d</m:t>
                        </m:r>
                      </m:num>
                      <m:den>
                        <m:r>
                          <m:t xml:space="preserve">2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d</m:t>
                        </m:r>
                      </m:den>
                    </m:f>
                    <m:r>
                      <m:t xml:space="preserve">÷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d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2432160" y="4419720"/>
                <a:ext cx="4842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2514600" y="3200400"/>
                <a:ext cx="3625920" cy="12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d</m:t>
                        </m:r>
                      </m:num>
                      <m:den>
                        <m:r>
                          <m:t xml:space="preserve">2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d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d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676520" y="3657600"/>
                <a:ext cx="59508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2819520" y="4343400"/>
                <a:ext cx="200484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d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3" name=""/>
          <p:cNvSpPr/>
          <p:nvPr/>
        </p:nvSpPr>
        <p:spPr>
          <a:xfrm flipV="1">
            <a:off x="2590920" y="4038120"/>
            <a:ext cx="175248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2895480" y="4495680"/>
            <a:ext cx="182880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4800600" y="3352320"/>
            <a:ext cx="121932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3124080" y="3352320"/>
            <a:ext cx="30492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257800" y="3962520"/>
            <a:ext cx="30492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895480" y="2971800"/>
                <a:ext cx="28728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5486400" y="4267080"/>
                <a:ext cx="3888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0" name=""/>
          <p:cNvSpPr/>
          <p:nvPr/>
        </p:nvSpPr>
        <p:spPr>
          <a:xfrm flipV="1">
            <a:off x="3429000" y="3352320"/>
            <a:ext cx="30492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2514600" y="4571640"/>
            <a:ext cx="30492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6324480" y="3657600"/>
                <a:ext cx="59544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7238880" y="3276720"/>
                <a:ext cx="28728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7238880" y="3886200"/>
                <a:ext cx="3891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5" name=""/>
          <p:cNvSpPr/>
          <p:nvPr/>
        </p:nvSpPr>
        <p:spPr>
          <a:xfrm>
            <a:off x="7162920" y="388620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990720" y="228600"/>
            <a:ext cx="72579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6699"/>
                </a:solidFill>
                <a:latin typeface="Arial Black"/>
              </a:rPr>
              <a:t>Chapter 11 Review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666699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500"/>
                            </p:stCondLst>
                            <p:childTnLst>
                              <p:par>
                                <p:cTn id="29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9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0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500"/>
                            </p:stCondLst>
                            <p:childTnLst>
                              <p:par>
                                <p:cTn id="30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0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1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2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500"/>
                            </p:stCondLst>
                            <p:childTnLst>
                              <p:par>
                                <p:cTn id="32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3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3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4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500"/>
                            </p:stCondLst>
                            <p:childTnLst>
                              <p:par>
                                <p:cTn id="342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4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492120" y="1219320"/>
                <a:ext cx="5111640" cy="114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num>
                      <m:den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8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num>
                      <m:den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762120" y="2286000"/>
                <a:ext cx="251460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3352680" y="2286000"/>
                <a:ext cx="251460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914400" y="2286000"/>
                <a:ext cx="38088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2133720" y="2286000"/>
                <a:ext cx="38088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3505320" y="2286000"/>
                <a:ext cx="38088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4724280" y="2286000"/>
                <a:ext cx="3812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1295280" y="2286000"/>
                <a:ext cx="6685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3809880" y="2286000"/>
                <a:ext cx="6685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2514600" y="2286000"/>
                <a:ext cx="685800" cy="4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5029200" y="2286000"/>
                <a:ext cx="68580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8" name=""/>
          <p:cNvSpPr/>
          <p:nvPr/>
        </p:nvSpPr>
        <p:spPr>
          <a:xfrm flipV="1">
            <a:off x="914400" y="2057040"/>
            <a:ext cx="228600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3429000" y="2057040"/>
            <a:ext cx="228600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1676520" y="3505320"/>
                <a:ext cx="3441600" cy="115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/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3809880" y="1371600"/>
                <a:ext cx="36684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4419720" y="1295280"/>
                <a:ext cx="36648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3200400" y="1600200"/>
                <a:ext cx="374760" cy="3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1066680" y="3505320"/>
                <a:ext cx="121932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2209680" y="3505320"/>
                <a:ext cx="114300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3276720" y="3581280"/>
                <a:ext cx="374400" cy="3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3505320" y="3505320"/>
                <a:ext cx="14158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4800600" y="3505320"/>
                <a:ext cx="114300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762120" y="3048120"/>
                <a:ext cx="527040" cy="55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1219320" y="3048120"/>
                <a:ext cx="920520" cy="51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2057400" y="3048120"/>
                <a:ext cx="920880" cy="51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2895480" y="3079800"/>
                <a:ext cx="83844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3657600" y="3048120"/>
                <a:ext cx="838080" cy="55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4267080" y="3087720"/>
                <a:ext cx="914400" cy="50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5105520" y="3048120"/>
                <a:ext cx="914400" cy="50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5867280" y="3048120"/>
                <a:ext cx="91440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 flipV="1">
            <a:off x="1143000" y="3657240"/>
            <a:ext cx="220968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3657600" y="3580920"/>
            <a:ext cx="220968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380880" y="3886200"/>
                <a:ext cx="59544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609480" y="5410080"/>
                <a:ext cx="59544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1576440" y="5105520"/>
                <a:ext cx="3335400" cy="115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/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2" name=""/>
          <p:cNvSpPr/>
          <p:nvPr/>
        </p:nvSpPr>
        <p:spPr>
          <a:xfrm flipV="1">
            <a:off x="762120" y="3123720"/>
            <a:ext cx="45720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3809880" y="3200040"/>
            <a:ext cx="60984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2438280" y="5029200"/>
                <a:ext cx="70956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3124080" y="5029200"/>
                <a:ext cx="1149480" cy="5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6" name=""/>
          <p:cNvSpPr txBox="1"/>
          <p:nvPr/>
        </p:nvSpPr>
        <p:spPr>
          <a:xfrm>
            <a:off x="990720" y="228600"/>
            <a:ext cx="72579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6699"/>
                </a:solidFill>
                <a:latin typeface="Arial Black"/>
              </a:rPr>
              <a:t>Chapter 11 Review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666699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500"/>
                            </p:stCondLst>
                            <p:childTnLst>
                              <p:par>
                                <p:cTn id="36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1000"/>
                            </p:stCondLst>
                            <p:childTnLst>
                              <p:par>
                                <p:cTn id="37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500"/>
                            </p:stCondLst>
                            <p:childTnLst>
                              <p:par>
                                <p:cTn id="38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500"/>
                            </p:stCondLst>
                            <p:childTnLst>
                              <p:par>
                                <p:cTn id="398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1000"/>
                            </p:stCondLst>
                            <p:childTnLst>
                              <p:par>
                                <p:cTn id="40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0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500"/>
                            </p:stCondLst>
                            <p:childTnLst>
                              <p:par>
                                <p:cTn id="418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1000"/>
                            </p:stCondLst>
                            <p:childTnLst>
                              <p:par>
                                <p:cTn id="43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3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1500"/>
                            </p:stCondLst>
                            <p:childTnLst>
                              <p:par>
                                <p:cTn id="4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500"/>
                            </p:stCondLst>
                            <p:childTnLst>
                              <p:par>
                                <p:cTn id="502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0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500"/>
                            </p:stCondLst>
                            <p:childTnLst>
                              <p:par>
                                <p:cTn id="530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3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1000"/>
                            </p:stCondLst>
                            <p:childTnLst>
                              <p:par>
                                <p:cTn id="53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4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500"/>
                            </p:stCondLst>
                            <p:childTnLst>
                              <p:par>
                                <p:cTn id="550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5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627120" y="1523880"/>
                <a:ext cx="7126200" cy="114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     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n</m:t>
                        </m:r>
                      </m:num>
                      <m:den>
                        <m:r>
                          <m:t xml:space="preserve">9</m:t>
                        </m:r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      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990720" y="2590920"/>
                <a:ext cx="1752480" cy="60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2666880" y="2590920"/>
                <a:ext cx="1752840" cy="60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1295280" y="2590920"/>
                <a:ext cx="133848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n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2895480" y="2590920"/>
                <a:ext cx="137160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2" name=""/>
          <p:cNvSpPr/>
          <p:nvPr/>
        </p:nvSpPr>
        <p:spPr>
          <a:xfrm flipV="1">
            <a:off x="1600200" y="2285640"/>
            <a:ext cx="251460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914400" y="1371600"/>
                <a:ext cx="99072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n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4267080" y="1371600"/>
                <a:ext cx="99072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n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7696080" y="1371600"/>
                <a:ext cx="99072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n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914400" y="1676520"/>
                <a:ext cx="99072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4267080" y="1676520"/>
                <a:ext cx="99072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7696080" y="1676520"/>
                <a:ext cx="99072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9" name=""/>
          <p:cNvSpPr/>
          <p:nvPr/>
        </p:nvSpPr>
        <p:spPr>
          <a:xfrm flipV="1">
            <a:off x="1219320" y="2742840"/>
            <a:ext cx="121896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914400" y="1523880"/>
            <a:ext cx="91440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990720" y="1828440"/>
            <a:ext cx="91440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2971800" y="2742840"/>
            <a:ext cx="121932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029200" y="2285640"/>
            <a:ext cx="121932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4343400" y="1523880"/>
            <a:ext cx="91440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6629400" y="2285640"/>
            <a:ext cx="121932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7772400" y="1828440"/>
            <a:ext cx="91440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1295280" y="3352680"/>
                <a:ext cx="709560" cy="6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981080" y="3352680"/>
                <a:ext cx="114804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3124080" y="3352680"/>
                <a:ext cx="80496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886200" y="3505320"/>
                <a:ext cx="457200" cy="36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4343400" y="3352680"/>
                <a:ext cx="91440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5181480" y="3276720"/>
                <a:ext cx="91440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2438280" y="3886200"/>
                <a:ext cx="704880" cy="65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3124080" y="3886200"/>
                <a:ext cx="80496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3886200" y="4038480"/>
                <a:ext cx="4572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4343400" y="3886200"/>
                <a:ext cx="91440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5181480" y="3809880"/>
                <a:ext cx="91440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2057400" y="4419720"/>
                <a:ext cx="1066680" cy="61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4114800" y="4419720"/>
                <a:ext cx="1066680" cy="61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3124080" y="4419720"/>
                <a:ext cx="804960" cy="54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5257800" y="4419720"/>
                <a:ext cx="804960" cy="54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2" name=""/>
          <p:cNvSpPr/>
          <p:nvPr/>
        </p:nvSpPr>
        <p:spPr>
          <a:xfrm>
            <a:off x="2133720" y="5029200"/>
            <a:ext cx="4038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3124080" y="5029200"/>
                <a:ext cx="72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3886200" y="5334120"/>
                <a:ext cx="457200" cy="36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4419720" y="5029200"/>
                <a:ext cx="60948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3429000" y="4876920"/>
                <a:ext cx="49860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/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4495680" y="4876920"/>
                <a:ext cx="49860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/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5867280" y="5410080"/>
                <a:ext cx="4795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6324480" y="5486400"/>
                <a:ext cx="4572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6781680" y="5257800"/>
                <a:ext cx="91440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1" name=""/>
          <p:cNvSpPr txBox="1"/>
          <p:nvPr/>
        </p:nvSpPr>
        <p:spPr>
          <a:xfrm>
            <a:off x="990720" y="228600"/>
            <a:ext cx="72579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6699"/>
                </a:solidFill>
                <a:latin typeface="Arial Black"/>
              </a:rPr>
              <a:t>Chapter 11 Review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666699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7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500"/>
                            </p:stCondLst>
                            <p:childTnLst>
                              <p:par>
                                <p:cTn id="57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7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500"/>
                            </p:stCondLst>
                            <p:childTnLst>
                              <p:par>
                                <p:cTn id="589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9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9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500"/>
                            </p:stCondLst>
                            <p:childTnLst>
                              <p:par>
                                <p:cTn id="598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0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1000"/>
                            </p:stCondLst>
                            <p:childTnLst>
                              <p:par>
                                <p:cTn id="602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500"/>
                            </p:stCondLst>
                            <p:childTnLst>
                              <p:par>
                                <p:cTn id="61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1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1000"/>
                            </p:stCondLst>
                            <p:childTnLst>
                              <p:par>
                                <p:cTn id="61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1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500"/>
                            </p:stCondLst>
                            <p:childTnLst>
                              <p:par>
                                <p:cTn id="62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500"/>
                            </p:stCondLst>
                            <p:childTnLst>
                              <p:par>
                                <p:cTn id="63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4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500"/>
                            </p:stCondLst>
                            <p:childTnLst>
                              <p:par>
                                <p:cTn id="64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4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4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500"/>
                            </p:stCondLst>
                            <p:childTnLst>
                              <p:par>
                                <p:cTn id="65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5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5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6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6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500"/>
                            </p:stCondLst>
                            <p:childTnLst>
                              <p:par>
                                <p:cTn id="67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7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7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8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8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9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fill="hold">
                            <p:stCondLst>
                              <p:cond delay="500"/>
                            </p:stCondLst>
                            <p:childTnLst>
                              <p:par>
                                <p:cTn id="69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9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1000"/>
                            </p:stCondLst>
                            <p:childTnLst>
                              <p:par>
                                <p:cTn id="69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0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1500"/>
                            </p:stCondLst>
                            <p:childTnLst>
                              <p:par>
                                <p:cTn id="70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0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0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500"/>
                            </p:stCondLst>
                            <p:childTnLst>
                              <p:par>
                                <p:cTn id="71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1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1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500"/>
                            </p:stCondLst>
                            <p:childTnLst>
                              <p:par>
                                <p:cTn id="72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2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1000"/>
                            </p:stCondLst>
                            <p:childTnLst>
                              <p:par>
                                <p:cTn id="72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2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3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500"/>
                            </p:stCondLst>
                            <p:childTnLst>
                              <p:par>
                                <p:cTn id="73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35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4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4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500"/>
                            </p:stCondLst>
                            <p:childTnLst>
                              <p:par>
                                <p:cTn id="74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4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aseball%20critical%20sto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5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fill="hold">
                            <p:stCondLst>
                              <p:cond delay="500"/>
                            </p:stCondLst>
                            <p:childTnLst>
                              <p:par>
                                <p:cTn id="756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aseball%20critical%20sto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aseball%20critical%20sto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6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0" y="1981080"/>
            <a:ext cx="9144000" cy="33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000000"/>
                </a:solidFill>
                <a:latin typeface="Chiller"/>
              </a:rPr>
              <a:t>Pg. 700 #1 - 29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990720" y="228600"/>
            <a:ext cx="72579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6699"/>
                </a:solidFill>
                <a:latin typeface="Arial Black"/>
              </a:rPr>
              <a:t>Chapter 11 Review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666699"/>
              </a:solidFill>
              <a:latin typeface="Arial Black"/>
              <a:ea typeface="Arial Black"/>
            </a:endParaRPr>
          </a:p>
        </p:txBody>
      </p:sp>
    </p:spTree>
  </p:cSld>
  <p:transition>
    <p:zoom dir="out"/>
    <p:sndAc>
      <p:stSnd>
        <p:snd r:embed="rId1" name="APPLAUSE.WAV"/>
      </p:stSnd>
    </p:sndAc>
  </p:transition>
  <p:timing>
    <p:tnLst>
      <p:par>
        <p:cTn id="764" dur="indefinite" restart="never" nodeType="tmRoot">
          <p:childTnLst>
            <p:seq>
              <p:cTn id="765" dur="indefinite" nodeType="mainSeq">
                <p:childTnLst>
                  <p:par>
                    <p:cTn id="766" fill="hold">
                      <p:stCondLst>
                        <p:cond delay="0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hostlaug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7T00:04:00Z</dcterms:created>
  <dc:creator>Don Helms</dc:creator>
  <dc:description/>
  <dc:language>en-US</dc:language>
  <cp:lastModifiedBy>damon.skelton</cp:lastModifiedBy>
  <dcterms:modified xsi:type="dcterms:W3CDTF">2005-03-15T14:42:48Z</dcterms:modified>
  <cp:revision>18</cp:revision>
  <dc:subject/>
  <dc:title>No Slide Title</dc:title>
</cp:coreProperties>
</file>